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603-F617-4DA1-93D1-0E217BEF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1F0-CD44-40CB-8FA0-3BF6695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84F-013F-476C-AF78-53A3CB9A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E7B-A4EC-4F4D-AE54-462EE40B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C95-2668-4223-B41F-736A4B7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8D8-4788-4520-B358-9CD38F0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073-783E-49ED-A0E3-A19BAF1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8A2-AB2B-41B7-960B-D8C0444D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1E4-3666-4D58-99AB-5A1C7A9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A03-F611-40D2-AE0A-99CEC19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4CC-8E61-4440-BEEF-4DEC44EC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57-5544-4932-8937-9506835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1A5-7590-48F4-AF81-305CB7FE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eoghagan_geometry_assignment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Angles &amp; thei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24480" y="411480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 acut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3, &lt;2, &lt;SBT, or &lt;T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 obtus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r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, &lt;ABS, or &lt;S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straigh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8880" y="4952520"/>
            <a:ext cx="1447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419720"/>
            <a:ext cx="4343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2361960"/>
            <a:ext cx="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29400" y="2590920"/>
            <a:ext cx="1295280" cy="1828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3809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43434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7432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048120"/>
            <a:ext cx="76320" cy="759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29600" y="43434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3434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gl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ymbol: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ays that share the same endpoint (or initial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477120" y="228600"/>
                <a:ext cx="838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 flipH="1" flipV="1">
            <a:off x="1982880" y="2814480"/>
            <a:ext cx="2668320" cy="9144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128320" y="3728880"/>
            <a:ext cx="2514600" cy="841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85880" y="2970360"/>
            <a:ext cx="155880" cy="1555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2286000"/>
            <a:ext cx="4191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rays XY &amp; X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common endpoint;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2362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4680" y="2362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733560" y="2514600"/>
            <a:ext cx="106668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657600" y="2743200"/>
            <a:ext cx="129528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724280" y="388584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181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d &lt;YXZ, &lt;ZXY (vertex is always in the middle), or &lt;X (if it’s the only &lt;X in the diagra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5562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can also be named by a #. (&lt;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191120" y="3809520"/>
            <a:ext cx="3962160" cy="221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different &lt;B’s in this diagram; therefore, none of them should be called &lt;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581280" y="2209320"/>
            <a:ext cx="381240" cy="2667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4876920"/>
            <a:ext cx="335304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81280" y="2514600"/>
            <a:ext cx="2743200" cy="236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95480"/>
            <a:ext cx="7596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5486400"/>
            <a:ext cx="7596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8006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5181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666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g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lt;A  means the “measure of &lt;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ngles with a protr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of angle measurement are degrees 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s with the same measu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gruent 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&lt;A = m&lt;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&lt;A     &lt;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705720" y="3809880"/>
                <a:ext cx="4572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tulat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rotractor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s of an angle can be matched up with real #s (from 1 to 180) on a protractor so that the measure of the &lt; equals the absolute value of the difference of the 2 #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207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flipV="1">
            <a:off x="5334120" y="1752480"/>
            <a:ext cx="137160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419720" y="2666880"/>
            <a:ext cx="228600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6576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89548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5720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lt;A =   55-2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495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4495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5029200"/>
            <a:ext cx="76176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ior or Exteri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133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x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590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90920" y="2437920"/>
            <a:ext cx="3276360" cy="3048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486400"/>
            <a:ext cx="4800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410080"/>
            <a:ext cx="152280" cy="1526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96252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71500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733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t.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Angle Addition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is in the interior of &lt;R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m&lt;QRP + m&lt;PRS = m&lt;Q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38080" y="4038480"/>
            <a:ext cx="3200400" cy="198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038480" y="2971440"/>
            <a:ext cx="457200" cy="3048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971440" y="2971440"/>
            <a:ext cx="1066680" cy="3048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505320"/>
            <a:ext cx="76320" cy="759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65760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76320" cy="7632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590920"/>
            <a:ext cx="3886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QRP=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&lt;PRS=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&amp; m&lt;QRS=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ind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+2x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lt;QRP=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&lt;PRS=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4876920"/>
            <a:ext cx="129528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410080"/>
            <a:ext cx="41148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angl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ngl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se angl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 angl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9000" y="9903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between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exactly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between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exactly 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1447920"/>
            <a:ext cx="121932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86000"/>
            <a:ext cx="144792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30492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7400" y="30477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03848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447560" y="4647960"/>
            <a:ext cx="114300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63868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6248520"/>
            <a:ext cx="152280" cy="152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jacent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gles that share a common vertex &amp; side, but have no common interior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y have the same vertex, but don’t overlap) such as &lt;1 &amp;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447920" y="4114440"/>
            <a:ext cx="213336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81280" y="3886200"/>
            <a:ext cx="228600" cy="228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1280" y="3886200"/>
            <a:ext cx="1524240" cy="228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16:02:03Z</dcterms:created>
  <dc:creator>Gateway_User</dc:creator>
  <dc:description/>
  <dc:language>en-US</dc:language>
  <cp:lastModifiedBy>julie.geoghagan</cp:lastModifiedBy>
  <dcterms:modified xsi:type="dcterms:W3CDTF">2005-07-28T15:27:04Z</dcterms:modified>
  <cp:revision>11</cp:revision>
  <dc:subject/>
  <dc:title>1.4 Angles &amp; their Measures</dc:title>
</cp:coreProperties>
</file>